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7AA-3042-40A4-A16E-7B96BFE7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F5A-A5C4-42F3-9516-5930CE6F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08C-4D8B-450D-BB31-EF98D8F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9F3-FCB7-45FF-B9C4-6F16EED0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F1A2-5C9A-497E-905D-A4EEEDB4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C28-2862-42E0-857C-A4B286A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92B-A45D-4146-8478-A9906C7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955-923D-4978-ABA4-793446AD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7D61-EC6A-44E4-9215-DEEF1E91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475-2A44-40B1-B9DB-C0677F26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23FD-0C4A-42DE-AB2E-EC3DAB4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092-F3E2-44D5-A8E8-C8C3D17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8424-2755-492D-8DF2-790C214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750-F47A-4DA6-A3A2-57E7F62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D7C-17AA-4511-93A7-421A0441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658-7C76-404D-8681-F95D9681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947A-3B65-4B9B-9B54-B36B3707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0BE-CC2A-4B5F-AE52-1AD146A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5C3-E514-450B-A00B-3984FC57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64E-AA1D-40A7-B07B-92157E75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F81-7198-46B7-82E5-61F9A8E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669-10C9-48BE-8D2A-027E26B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B92-5FCC-4CA7-91C6-D323FD5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EED-A320-4FB9-8B0C-646ABEE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D0D-F5CD-45C4-95B6-4EAB01E3B2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BE0-2DDE-4040-8431-62AD560521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Curriculum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multitude of 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662940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50840"/>
            <a:ext cx="76197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7620120" y="-5715000"/>
            <a:ext cx="4891320" cy="366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0700000">
            <a:off x="-7620120" y="-5715000"/>
            <a:ext cx="5740560" cy="4305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5100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15880" y="1981080"/>
            <a:ext cx="71265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learned from school that may or may not be intentio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learned from planned activities of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ons planned from interactions from fellow stud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pupil’s own curriculum used to cope with the school’s bureaucratic organization and includes social relationships within the schoo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hidden or covert curriculum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kinds of learnings children derive from the very nature and organizational design of the public school, as well as from the behaviors and attitudes of teachers and administrator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Examples of the hidden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essages and lessons derived from the mere organization of schoo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ay include both positive or negative messages, depending on the perspective of the learner or the obser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Examples of the hidden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cial structure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ine policy of th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corporal punis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of fairness and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hoo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is not taught, thus giving students the message that these elements are not important in their educational experiences or in our socie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</a:t>
            </a: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Since it is physically impossible to teach everything in schools, many topics and subject areas must be excluded from the written curriculum  - what gets taught is what is tes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extbook definition of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rmal or informal content and process by which students gain knowledge and understanding, develop skills, and alter attitudes, appreciations, and values under the auspices of that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isner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“schools have consequence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ot only by virtue of what they do not teach, but also by virtue of what they neglect to teach.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What students cannot consider, what they don't processes they are unable to use, have consequences for the kinds of lives they le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Null Curriculu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isner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“what schools do not teach may be as important as what they do teach -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gnorance is not simply a neutral void; it has important effects on the kinds of options one is able to consider, the alternatives that one can examine, and the perspectives from which one can view a situation or problem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Phantom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Phantom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essages prevalent in and through exposure to medi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10080" y="2500200"/>
            <a:ext cx="26780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offered by policymakers , school officials, administrators, or politicia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ose professionals involved in concept formation and content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ose educational initiatives resulting from decisions based on national and state reports, public speeches, or from texts critiquing outdated educational practice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hetorical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Ideas from the publicized works offering updates in pedagogical knowled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Curriculum-in-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26049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Curriculum-in-use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urriculum-in-use is the actual curriculum that is delivered and presented by each teach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extbook defini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one learns (conten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ow one learns (proces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 in the forms of knowledge, understanding, skills, attitudes, appreciations, and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eceived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86200" y="2162160"/>
            <a:ext cx="15717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Received curriculum</a:t>
            </a:r>
            <a:r>
              <a:rPr b="1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ose things that students actually take out of classroom; those concepts and content that are truly learned and remember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xtra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734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xtra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ed activities outside the school su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volun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student inter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t hidden but an open dimension of the school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ope and Sequ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ope and Sequ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iction of the curriculum as a matrix of objectives assigned to successive grade levels (seque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grouped by themes (scop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– scope and sequence – sixth grade language arts  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Scope and Se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Little Clear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iculum is not just a list of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clu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rpos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iti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tions of the educational program actually created in schools by teachers, students, and administra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erent Types of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051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curriculum is formal or even planned.  The curriculum may be defined in many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The overt, explicit or written curricul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305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Overt, explicit or written curriculu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Written understandings and directions formally designated and reviewed by administrators, curriculum directors and teachers, often collectiv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Overt, explicit or written curriculu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is written as part of formal instruction of the schooling experie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fers to a curriculum document, texts, films, and supportive teaching materials that are overtly chosen to support the intentional instructional agenda of a schoo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written curriculum of Clarksville Montgomery Schoo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9:35:18Z</dcterms:created>
  <dc:creator>User</dc:creator>
  <dc:description/>
  <dc:language>en-US</dc:language>
  <cp:lastModifiedBy>Carlette Hardin</cp:lastModifiedBy>
  <dcterms:modified xsi:type="dcterms:W3CDTF">2005-09-04T01:58:57Z</dcterms:modified>
  <cp:revision>9</cp:revision>
  <dc:subject/>
  <dc:title>Curriculum</dc:title>
</cp:coreProperties>
</file>